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0D18-A118-42AD-8CEB-597DBA22A2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C1C-4597-41D8-AA05-0E0B5DBB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6DC-AC5D-46F1-85F3-A6591B8E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12F-BB72-47C3-AE08-D2F14D89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2BD-FA48-4251-96B1-FDEAF360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E37A-2AF1-4C1C-B179-BFF1751E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AC32-6C38-455B-8674-8A8CEE3E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CAD6-2C19-4431-A5F4-3FBF4499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601A-F930-46D9-8B03-B874EF50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FDBC-234D-4F75-A549-E75F1C08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2902-AA5D-4A8D-8449-C362468E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5F90-B475-48B9-A053-ADBF9E6F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A21-BE3A-48B7-B957-D14BA849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60C5-8F82-4658-824C-1672FC71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19ED-E696-49D3-A5E9-A6AA9460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AB16-E30E-492D-978C-2B4FCD3A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9AD4-8E1B-49D5-AF7B-C5DAF6F6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4967-AF4E-4F31-96BA-A6D43CF2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BB2-4147-4DB8-9BFA-291E3EA8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8AC-203D-4C0E-9DD9-DE12E876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278-9F5A-4D99-9EFB-A8DB3737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114-607A-43B3-A73E-C9E170F8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86F-3D9B-4FCA-A517-2A210A1B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CAA-8E60-41DF-9936-20B89720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4E9-1BA4-4D92-919B-72AAFC6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8A96-E15A-4B9B-98F8-BFA38B8CEF11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E7A2-FA2F-4908-9D33-21C004DDFF77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RomaK</cp:lastModifiedBy>
  <dcterms:modified xsi:type="dcterms:W3CDTF">2015-09-04T09:30:27Z</dcterms:modified>
  <cp:revision>8</cp:revision>
  <dc:subject/>
  <dc:title>No Slide Title</dc:title>
</cp:coreProperties>
</file>